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4BA-C699-40AD-9E3E-D6A6CE40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E3D9-B3A2-4E28-8B13-39DA34B4B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A36-0696-44D3-ABE6-DC2E816014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F31B-3EB3-46E3-B661-1DF163B70B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2F9B-FBF7-4E00-A973-F0A47AF62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FEC-6970-460F-BA15-FBF94F85E3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504-95C2-4AEB-B54E-B03450AAD4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180-ECBA-4CE7-AD5D-E006EEA5A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223C-5A09-4CB4-AF72-7CBD3AB4D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8DC-45D5-4D32-8FB2-C70632E0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65E-C35A-41B5-AED6-0136622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399-32CE-442E-B1CF-529A404C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B33-84E1-405A-B2F7-7750AB4D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03B6-D02C-4A74-992D-5B89AFEB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C57A-13BB-445D-BB94-B55487AF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42A-6E03-4E3B-AB27-658B7EB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8DE-772A-4F70-B213-AFD7342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92DE-27ED-46A8-9738-AE26B97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4213-07F8-422E-947E-1B40059B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AA95-DB16-4565-8B1D-E95DAF1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818-1E4F-4FA9-9419-2F52ACC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C89-B29D-4FCD-B1B2-8557218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CFB1-0D3B-4FD9-ADFA-DB77B2F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A8D5-3BC4-4A85-BC9C-B4B595C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ABB1-6C94-4FF8-8604-E042330D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4514-C107-4C50-BE00-B36E5081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DF3-F7F1-4E48-B4A5-93D7CE7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812-748F-4F52-B0E1-CDCAB7A2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30D-B374-4980-BC70-AD181C87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A9B-E420-4675-BED0-65C23F4C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3BF-BD08-4F8D-A68D-3B294A1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4A9-D9D3-4993-8D1C-ECC73EF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712-193B-4E3F-A441-6AAF996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AA7D-C852-422C-AAE2-1199392C6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19B-B79D-4801-80AB-25D035104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Conjugating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Verbs </a:t>
            </a:r>
            <a:br>
              <a:rPr sz="106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Future Tense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e Future Tens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088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uture tense is used to indicate an action that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wi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sh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or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is going t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ake plac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The future tense is also used to express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ossi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roba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resen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eps to conjugate in the Future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tem is the entire infiniti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e...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Add the regular future ending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AR, ER IR Ending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447920" y="1447920"/>
            <a:ext cx="693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o describe something that is 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oing to happen in th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uture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2209680" y="36576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é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mo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1981080" y="44956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á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1889280" y="5334120"/>
            <a:ext cx="61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á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actice Conjugat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143000" y="2209680"/>
            <a:ext cx="8001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onjugate the following regular verbs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the future tense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tudi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sac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com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vivi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cribi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manej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le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repas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Irregular Verbs 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7920" y="12193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verbs have irregular stems but regular endings in the future t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066680" y="2666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r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dec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b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li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ce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e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d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al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n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en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90512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90720" y="160020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con mi hermana mañan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 will talk with my sister tomorrow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bailará el lune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uan will dance on Monda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maremos los refrescos a la fiest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You and I  will drink the sodas at the part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84360" y="187020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 (Cont.)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84360" y="2022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08040" y="205740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08040" y="20224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43000" y="2590920"/>
            <a:ext cx="8001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Limpiarán la casa el marte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They will clean the house on Tuesda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antaremos en el gimnasio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e will sing in the gym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04:36:59Z</dcterms:created>
  <dc:creator>Socorro McGerty</dc:creator>
  <dc:description/>
  <dc:language>en-US</dc:language>
  <cp:lastModifiedBy>Maple Lake</cp:lastModifiedBy>
  <dcterms:modified xsi:type="dcterms:W3CDTF">2009-04-15T16:03:46Z</dcterms:modified>
  <cp:revision>28</cp:revision>
  <dc:subject/>
  <dc:title>Conjugating –AR Verbs in the Preterite Tense</dc:title>
</cp:coreProperties>
</file>